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9080" y="671400"/>
            <a:ext cx="4479840" cy="336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55920"/>
            <a:ext cx="5486400" cy="40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11840"/>
            <a:ext cx="29718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511840"/>
            <a:ext cx="29718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E77D-5C2A-47AD-9576-DE9630CDD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89080" y="671400"/>
            <a:ext cx="4479840" cy="33609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255920"/>
            <a:ext cx="5486400" cy="40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51220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DE01-839C-4B97-9D40-AF618CAB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98C-D7C3-4143-9A9A-DBD73664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458-555B-41C1-BB16-B876B7BF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CA5-9CE6-45CA-AA97-E9C61BF4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30F-8C5F-4152-8F3E-03F2FB39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709-780A-4E20-BFFD-7C332379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1B8-698A-4F33-A552-8DB0D5A7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37D-F43C-411F-9D13-29098A00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C9F-4265-4261-87AE-C8D98FCC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6D3-7ED2-4856-AA02-EE1F7BAC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189-293A-4E23-B29B-F57F420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1D4-BDA6-4453-A29F-B9FBFF55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FCF-CE4B-4302-91EB-0352927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6ab94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2CD1-E24B-4799-A9F6-6B0DFDFD2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181480" y="1066680"/>
            <a:ext cx="3886200" cy="67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Garamond"/>
              </a:rPr>
              <a:t> </a:t>
            </a:r>
            <a:r>
              <a:rPr b="1" lang="en-US" sz="3100" spc="-1" strike="noStrike">
                <a:solidFill>
                  <a:srgbClr val="008000"/>
                </a:solidFill>
                <a:latin typeface="AGaramond"/>
              </a:rPr>
              <a:t>Seniors</a:t>
            </a:r>
            <a:r>
              <a:rPr b="1" lang="en-US" sz="2500" spc="-1" strike="noStrike">
                <a:solidFill>
                  <a:srgbClr val="008000"/>
                </a:solidFill>
                <a:latin typeface="AGaramon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Garamond"/>
              </a:rPr>
              <a:t>Mayland Community College Coh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Garamond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Garamond"/>
              </a:rPr>
              <a:t>Integrated Thematic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Garamond"/>
              </a:rPr>
              <a:t>December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LMC_logo_stack_color.jpg"/>
          <p:cNvPicPr/>
          <p:nvPr/>
        </p:nvPicPr>
        <p:blipFill>
          <a:blip r:embed="rId1"/>
          <a:stretch/>
        </p:blipFill>
        <p:spPr>
          <a:xfrm>
            <a:off x="6172200" y="457200"/>
            <a:ext cx="17524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Rockwell"/>
              </a:rPr>
              <a:t>Lees-McRae College Seniors are proud to present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Rockwell"/>
              </a:rPr>
              <a:t>Integrated Thematic Units Fall 2011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0600" y="1905120"/>
          <a:ext cx="8871120" cy="4794120"/>
        </p:xfrm>
        <a:graphic>
          <a:graphicData uri="http://schemas.openxmlformats.org/drawingml/2006/table">
            <a:tbl>
              <a:tblPr/>
              <a:tblGrid>
                <a:gridCol w="260280"/>
                <a:gridCol w="1833840"/>
                <a:gridCol w="1638000"/>
                <a:gridCol w="565200"/>
                <a:gridCol w="352440"/>
                <a:gridCol w="1876680"/>
                <a:gridCol w="1836720"/>
                <a:gridCol w="507960"/>
              </a:tblGrid>
              <a:tr h="641160">
                <a:tc gridSpan="4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Decembe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December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Megan Hob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Renee Dun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The Wonderful Wizard of O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Stacey Ca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The Lost Col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Beth Pe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Native Americans of North Caro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Henry “Bud” Ga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Sequoia Kings Canyon Nation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5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Ayla Ar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Western 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Kim Crip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Happy Birth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Jason 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Cam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2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Brittany 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Gard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Melissa Ga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Calibri"/>
                          <a:ea typeface="Calibri"/>
                        </a:rPr>
                        <a:t>1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0:32:39Z</dcterms:created>
  <dc:creator>Margaret T Stewart</dc:creator>
  <dc:description/>
  <dc:language>en-US</dc:language>
  <cp:lastModifiedBy>Ginger McKinney</cp:lastModifiedBy>
  <cp:lastPrinted>2006-05-02T14:32:35Z</cp:lastPrinted>
  <dcterms:modified xsi:type="dcterms:W3CDTF">2011-12-06T15:51:34Z</dcterms:modified>
  <cp:revision>92</cp:revision>
  <dc:subject/>
  <dc:title>No Slide Title</dc:title>
</cp:coreProperties>
</file>